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6000" cy="68199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6156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04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28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20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28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20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1800"/>
            <a:ext cx="89150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04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785000" y="6343560"/>
            <a:ext cx="1676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PA3DJM </a:t>
            </a:r>
            <a:fld id="{F8FA5900-84C9-4945-AA65-2D5BBA758744}" type="slidenum">
              <a:rPr b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633096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11360" y="895320"/>
            <a:ext cx="662940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lefax, een nieuwe uitdag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or de zendamateur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711520"/>
            <a:ext cx="5842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6560" y="89532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CCITT-aanbeveling T.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9160" y="1898640"/>
            <a:ext cx="8267760" cy="412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 procedure voor het verzenden van een telefaxbe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staat uit 5 stap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A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et opzetten van de (telefoon)verbinding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ussen twee fax-appa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B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ynchronisatie/pre-message handshak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C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en van faxber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D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ost-message handsh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E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breken van de verbi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4870440"/>
            <a:ext cx="2556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36560" y="89532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00" y="2000160"/>
            <a:ext cx="8559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895320"/>
            <a:ext cx="54100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Instellingen voor JV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9160" y="1822320"/>
            <a:ext cx="8318520" cy="37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LPM: 180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ispl: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IOC: 204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olor mode: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V: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PT Mode: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hase sign.: Inve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can Dir.: up &gt;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art: 6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op: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895320"/>
            <a:ext cx="3352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tele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5480" y="1682640"/>
            <a:ext cx="8013600" cy="412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3 minuten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naloog, amplitudemodu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otatiesnelheid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360 omwentelingen/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14,8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1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895320"/>
            <a:ext cx="69343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grijswaarde overdrac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00" y="2139840"/>
            <a:ext cx="8585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895320"/>
            <a:ext cx="6477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estigal sideband mod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79840" y="1479600"/>
            <a:ext cx="402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94608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0280" y="1873080"/>
            <a:ext cx="8102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74720" y="971640"/>
            <a:ext cx="58928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Scanning met  CCD-sens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59000" y="1898640"/>
            <a:ext cx="7264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36560" y="996840"/>
            <a:ext cx="24382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Digitale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3200" y="2355840"/>
            <a:ext cx="8559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74720" y="895320"/>
            <a:ext cx="38606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fac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00280" y="1657440"/>
            <a:ext cx="8013600" cy="44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&lt;1 minuut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igitaal, V.21,V.27 ter, V.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8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/ 7,7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61,6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2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(excl. fax modems in PC'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87320" y="895320"/>
            <a:ext cx="16765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6320" y="2305080"/>
            <a:ext cx="4140360" cy="20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at is telefa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Universele telefax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895320"/>
            <a:ext cx="54864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Modified Huffman co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46040" y="1428840"/>
            <a:ext cx="72262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87320" y="996840"/>
            <a:ext cx="4191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-3 resolutie "fine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2127240"/>
            <a:ext cx="3124080" cy="2616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184800" y="831960"/>
            <a:ext cx="763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73800" y="2152800"/>
            <a:ext cx="3124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49160" y="895320"/>
            <a:ext cx="4902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-3 resolutie "normal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5600" y="2127240"/>
            <a:ext cx="3124080" cy="261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99000" y="2127240"/>
            <a:ext cx="3124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92088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52760" y="1555920"/>
            <a:ext cx="5168880" cy="466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5981760" y="180972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06960" y="478152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06960" y="511164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06960" y="622944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1960" y="3270240"/>
            <a:ext cx="14479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Geneva"/>
                <a:ea typeface="Geneva"/>
              </a:rPr>
              <a:t>300 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70080" y="2698920"/>
            <a:ext cx="1143000" cy="45720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486240"/>
            <a:ext cx="2540160" cy="1015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638520"/>
            <a:ext cx="838080" cy="68580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3760" y="3841920"/>
            <a:ext cx="1270080" cy="17017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734240" y="3676680"/>
            <a:ext cx="1676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Geneva"/>
                <a:ea typeface="Geneva"/>
              </a:rPr>
              <a:t>9600 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70680" y="3867120"/>
            <a:ext cx="1523880" cy="3049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21440" y="4019400"/>
            <a:ext cx="1828800" cy="63504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1360" y="895320"/>
            <a:ext cx="35812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Modem fall-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78240" y="1454040"/>
            <a:ext cx="33019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49160" y="971640"/>
            <a:ext cx="31748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.29 9600 B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35240" y="1593720"/>
            <a:ext cx="5321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49160" y="971640"/>
            <a:ext cx="31748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.29 7200 B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35240" y="1542960"/>
            <a:ext cx="54230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49160" y="971640"/>
            <a:ext cx="61214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telefax bloksch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9160" y="2025720"/>
            <a:ext cx="8407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74720" y="996840"/>
            <a:ext cx="34034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orkschak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01720" y="2444760"/>
            <a:ext cx="66801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74720" y="996840"/>
            <a:ext cx="2641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Het Sch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555920"/>
            <a:ext cx="7188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87320" y="895320"/>
            <a:ext cx="3327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Wat is telefax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00280" y="1568520"/>
            <a:ext cx="7823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fax is het overdragen van schriftelijke ber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 behulp van electro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ere benam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beeldtele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elecopië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facsi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formatie wordt zwart op wit doorgegeven, hier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inge kans op misverst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 informatie wordt vormgetrouw door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pparatuur is eenvoudig te be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11360" y="971640"/>
            <a:ext cx="45720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QRV met TELEFAX 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93760" y="1809720"/>
            <a:ext cx="7518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895320"/>
            <a:ext cx="30988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Toepassin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44800" y="2406600"/>
            <a:ext cx="6095880" cy="16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weerkaarten (korte gol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krantepagina's (breedbandverbindin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foto'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telegrammen (A-5 forma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telefax (A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49160" y="895320"/>
            <a:ext cx="48261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Historisch perspect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8400" y="1644480"/>
            <a:ext cx="8877240" cy="47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43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lexander Bain krijgt octrooi op beeldtelegra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65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oepassing van roterende cilinder voor facsim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oor Giovani Cast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04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rthur Korn realiseert beeldverbinding tu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München en Würz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25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CA opent dienst voor beeldoverdracht v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 korte go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72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76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80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11360" y="895320"/>
            <a:ext cx="57150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Waarom standaardisati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4720" y="1644480"/>
            <a:ext cx="878832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andaardisatie is nodig om faxapparaten van verschillen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merken met elkaar samen te laten wer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et CCITT (Comité Consultatif International Télégraphi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et Téléphonique) heeft voor telefax aanbevelin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uitgevaardigd die inmiddels door alle fabrikanten wo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nderste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1: 6 minut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2: 3 minut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3: &lt;1 minuut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4: ca. 5 second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971640"/>
            <a:ext cx="3352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tele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5480" y="1746360"/>
            <a:ext cx="8013600" cy="44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6 minuten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naloog, frequentiemodulatie,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ok amplitudemodu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otatiesnelheid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0 omwentelingen/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14,8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1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920880"/>
            <a:ext cx="25909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Analoge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640" y="1415880"/>
            <a:ext cx="85345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920880"/>
            <a:ext cx="69343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grijswaarde overdrac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11280" y="2863800"/>
            <a:ext cx="7035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nier</dc:creator>
  <dc:description/>
  <dc:language>en-US</dc:language>
  <cp:lastModifiedBy>ROMAN ECKHART</cp:lastModifiedBy>
  <cp:revision>0</cp:revision>
  <dc:subject/>
  <dc:title>Telefax, een nieuwe uitdaging  voor de zendamateur? </dc:title>
</cp:coreProperties>
</file>