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9.pct" ContentType="image/x-pict"/>
  <Override PartName="/ppt/media/image1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906000" cy="68199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595520"/>
            <a:ext cx="89150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661560"/>
            <a:ext cx="89150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552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040" y="159552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66156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040" y="366156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595520"/>
            <a:ext cx="287028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280" y="1595520"/>
            <a:ext cx="287028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3200" y="1595520"/>
            <a:ext cx="287028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661560"/>
            <a:ext cx="287028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280" y="3661560"/>
            <a:ext cx="287028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3200" y="3661560"/>
            <a:ext cx="287028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595520"/>
            <a:ext cx="8915040" cy="39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595520"/>
            <a:ext cx="8915040" cy="39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595520"/>
            <a:ext cx="4350240" cy="39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040" y="1595520"/>
            <a:ext cx="4350240" cy="39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271800"/>
            <a:ext cx="89150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552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040" y="1595520"/>
            <a:ext cx="4350240" cy="39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66156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595520"/>
            <a:ext cx="4350240" cy="39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59552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040" y="366156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59552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595520"/>
            <a:ext cx="43502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661560"/>
            <a:ext cx="8915040" cy="18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785000" y="6343560"/>
            <a:ext cx="1676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PA3DJM </a:t>
            </a:r>
            <a:fld id="{8DF2E0C9-BA82-4AE2-8907-E82EE555D63D}" type="slidenum">
              <a:rPr b="1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7960" y="633096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1800"/>
            <a:ext cx="89150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595520"/>
            <a:ext cx="8915040" cy="39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711360" y="895320"/>
            <a:ext cx="662940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lefax, een nieuwe uitdag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or de zendamateur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711520"/>
            <a:ext cx="58420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36560" y="895320"/>
            <a:ext cx="51814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CCITT-aanbeveling T.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49160" y="1898640"/>
            <a:ext cx="8267760" cy="412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11174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De procedure voor het verzenden van een telefaxber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11174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bestaat uit 5 stapp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111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1117440"/>
              </a:tabLst>
            </a:pPr>
            <a:r>
              <a:rPr b="1" lang="en-US" sz="2400" spc="-1" strike="noStrike" u="sng">
                <a:solidFill>
                  <a:srgbClr val="22c000"/>
                </a:solidFill>
                <a:uFillTx/>
                <a:latin typeface="Arial"/>
                <a:ea typeface="Arial"/>
              </a:rPr>
              <a:t>Fase A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Het opzetten van de (telefoon)verbinding 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tussen twee fax-appara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1117440"/>
              </a:tabLst>
            </a:pPr>
            <a:r>
              <a:rPr b="1" lang="en-US" sz="2400" spc="-1" strike="noStrike" u="sng">
                <a:solidFill>
                  <a:srgbClr val="22c000"/>
                </a:solidFill>
                <a:uFillTx/>
                <a:latin typeface="Arial"/>
                <a:ea typeface="Arial"/>
              </a:rPr>
              <a:t>Fase B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Synchronisatie/pre-message handshak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1117440"/>
              </a:tabLst>
            </a:pPr>
            <a:r>
              <a:rPr b="1" lang="en-US" sz="2400" spc="-1" strike="noStrike" u="sng">
                <a:solidFill>
                  <a:srgbClr val="22c000"/>
                </a:solidFill>
                <a:uFillTx/>
                <a:latin typeface="Arial"/>
                <a:ea typeface="Arial"/>
              </a:rPr>
              <a:t>Fase C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verzenden van faxberic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1117440"/>
              </a:tabLst>
            </a:pPr>
            <a:r>
              <a:rPr b="1" lang="en-US" sz="2400" spc="-1" strike="noStrike" u="sng">
                <a:solidFill>
                  <a:srgbClr val="22c000"/>
                </a:solidFill>
                <a:uFillTx/>
                <a:latin typeface="Arial"/>
                <a:ea typeface="Arial"/>
              </a:rPr>
              <a:t>Fase D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Post-message handsha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1117440"/>
              </a:tabLst>
            </a:pPr>
            <a:r>
              <a:rPr b="1" lang="en-US" sz="2400" spc="-1" strike="noStrike" u="sng">
                <a:solidFill>
                  <a:srgbClr val="22c000"/>
                </a:solidFill>
                <a:uFillTx/>
                <a:latin typeface="Arial"/>
                <a:ea typeface="Arial"/>
              </a:rPr>
              <a:t>Fase E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Verbreken van de verbi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52960" y="4870440"/>
            <a:ext cx="2556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36560" y="895320"/>
            <a:ext cx="51814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1 T.30 proced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73200" y="2000160"/>
            <a:ext cx="8559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895320"/>
            <a:ext cx="54100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Instellingen voor JV F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9160" y="1822320"/>
            <a:ext cx="8318520" cy="37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4343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LPM: 180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Displ: 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4343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IOC: 204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Color mode: o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4343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DEV: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4343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APT Mode: 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4343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Phase sign.: Inve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4343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Scan Dir.: up &gt; 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4343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Start: 6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4343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Stop: 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895320"/>
            <a:ext cx="33526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2 telef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5480" y="1682640"/>
            <a:ext cx="8013600" cy="412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7176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verzendtijd 3 minuten voor A-4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7176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transmissiemode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analoog, amplitudemodu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7176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rotatiesnelheid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360 omwentelingen/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7176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beeldkwaliteit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hor. resolutie 3,85 punten/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7176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vert. resolutie 3,85 punten/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7176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plossend vermogen 14,8 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punten/m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71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71764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Aantal in Nederland geplaatste apparaten: ca. 17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895320"/>
            <a:ext cx="69343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2 grijswaarde overdrac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73200" y="2139840"/>
            <a:ext cx="85852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895320"/>
            <a:ext cx="64771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Vestigal sideband mod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679840" y="1479600"/>
            <a:ext cx="4025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62120" y="946080"/>
            <a:ext cx="51814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2 T.30 proced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00280" y="1873080"/>
            <a:ext cx="81025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774720" y="971640"/>
            <a:ext cx="58928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Scanning met  CCD-sens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59000" y="1898640"/>
            <a:ext cx="72644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36560" y="996840"/>
            <a:ext cx="243828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Digitale f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73200" y="2355840"/>
            <a:ext cx="85597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74720" y="895320"/>
            <a:ext cx="38606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3 facsim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00280" y="1657440"/>
            <a:ext cx="8013600" cy="44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41308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verzendtijd &lt;1 minuut voor A-4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41308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transmissiemode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digitaal, V.21,V.27 ter, V.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41308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beeldkwaliteit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hor. resolutie 8 punten/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41308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vert. resolutie 3,85 / 7,7 punten/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41308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plossend vermogen 61,6 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punten/m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413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41308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Aantal in Nederland geplaatste apparaten: ca. 20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241308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(excl. fax modems in PC'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87320" y="895320"/>
            <a:ext cx="16765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46320" y="2305080"/>
            <a:ext cx="4140360" cy="20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Wat is telefax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Groep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Groep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Groep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Universele telefax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62120" y="895320"/>
            <a:ext cx="548640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Modified Huffman co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46040" y="1428840"/>
            <a:ext cx="72262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787320" y="996840"/>
            <a:ext cx="41911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-3 resolutie "fine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28880" y="2127240"/>
            <a:ext cx="3124080" cy="2616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184800" y="831960"/>
            <a:ext cx="763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473800" y="2152800"/>
            <a:ext cx="3124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49160" y="895320"/>
            <a:ext cx="49021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-3 resolutie "normal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55600" y="2127240"/>
            <a:ext cx="3124080" cy="2616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99000" y="2127240"/>
            <a:ext cx="3124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920880"/>
            <a:ext cx="51814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3 T.30 proced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52760" y="1555920"/>
            <a:ext cx="5168880" cy="466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>
            <a:off x="5981760" y="1809720"/>
            <a:ext cx="266760" cy="0"/>
          </a:xfrm>
          <a:prstGeom prst="line">
            <a:avLst/>
          </a:prstGeom>
          <a:ln w="12600">
            <a:solidFill>
              <a:srgbClr val="22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006960" y="4781520"/>
            <a:ext cx="266760" cy="0"/>
          </a:xfrm>
          <a:prstGeom prst="line">
            <a:avLst/>
          </a:prstGeom>
          <a:ln w="12600">
            <a:solidFill>
              <a:srgbClr val="22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006960" y="5111640"/>
            <a:ext cx="266760" cy="0"/>
          </a:xfrm>
          <a:prstGeom prst="line">
            <a:avLst/>
          </a:prstGeom>
          <a:ln w="12600">
            <a:solidFill>
              <a:srgbClr val="22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006960" y="6229440"/>
            <a:ext cx="266760" cy="0"/>
          </a:xfrm>
          <a:prstGeom prst="line">
            <a:avLst/>
          </a:prstGeom>
          <a:ln w="12600">
            <a:solidFill>
              <a:srgbClr val="22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91960" y="3270240"/>
            <a:ext cx="14479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Geneva"/>
                <a:ea typeface="Geneva"/>
              </a:rPr>
              <a:t>300 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270080" y="2698920"/>
            <a:ext cx="1143000" cy="457200"/>
          </a:xfrm>
          <a:prstGeom prst="line">
            <a:avLst/>
          </a:prstGeom>
          <a:ln w="12600">
            <a:solidFill>
              <a:srgbClr val="22c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486240"/>
            <a:ext cx="2540160" cy="101520"/>
          </a:xfrm>
          <a:prstGeom prst="line">
            <a:avLst/>
          </a:prstGeom>
          <a:ln w="12600">
            <a:solidFill>
              <a:srgbClr val="22c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3638520"/>
            <a:ext cx="838080" cy="685800"/>
          </a:xfrm>
          <a:prstGeom prst="line">
            <a:avLst/>
          </a:prstGeom>
          <a:ln w="12600">
            <a:solidFill>
              <a:srgbClr val="22c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93760" y="3841920"/>
            <a:ext cx="1270080" cy="1701720"/>
          </a:xfrm>
          <a:prstGeom prst="line">
            <a:avLst/>
          </a:prstGeom>
          <a:ln w="12600">
            <a:solidFill>
              <a:srgbClr val="22c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734240" y="3676680"/>
            <a:ext cx="16765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Geneva"/>
                <a:ea typeface="Geneva"/>
              </a:rPr>
              <a:t>9600 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70680" y="3867120"/>
            <a:ext cx="1523880" cy="304920"/>
          </a:xfrm>
          <a:prstGeom prst="line">
            <a:avLst/>
          </a:prstGeom>
          <a:ln w="12600">
            <a:solidFill>
              <a:srgbClr val="22c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121440" y="4019400"/>
            <a:ext cx="1828800" cy="635040"/>
          </a:xfrm>
          <a:prstGeom prst="line">
            <a:avLst/>
          </a:prstGeom>
          <a:ln w="12600">
            <a:solidFill>
              <a:srgbClr val="22c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11360" y="895320"/>
            <a:ext cx="358128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Modem fall-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78240" y="1454040"/>
            <a:ext cx="33019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49160" y="971640"/>
            <a:ext cx="31748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V.29 9600 B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35240" y="1593720"/>
            <a:ext cx="5321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49160" y="971640"/>
            <a:ext cx="31748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V.29 7200 B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35240" y="1542960"/>
            <a:ext cx="542304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49160" y="971640"/>
            <a:ext cx="61214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3 telefax bloksch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49160" y="2025720"/>
            <a:ext cx="84074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74720" y="996840"/>
            <a:ext cx="34034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Vorkschak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01720" y="2444760"/>
            <a:ext cx="66801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774720" y="996840"/>
            <a:ext cx="26416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Het Sch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1555920"/>
            <a:ext cx="7188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87320" y="895320"/>
            <a:ext cx="33274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  <a:ea typeface="Arial"/>
              </a:rPr>
              <a:t>Wat is telefax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00280" y="1568520"/>
            <a:ext cx="78231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efax is het overdragen van schriftelijke beri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 behulp van electro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ere benam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beeldtele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telecopië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facsi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ord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nformatie wordt zwart op wit doorgegeven, hier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ringe kans op misverst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de informatie wordt vormgetrouw door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apparatuur is eenvoudig te be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711360" y="971640"/>
            <a:ext cx="457200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QRV met TELEFAX 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93760" y="1809720"/>
            <a:ext cx="75182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895320"/>
            <a:ext cx="30988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Toepassing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44800" y="2406600"/>
            <a:ext cx="6095880" cy="16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- weerkaarten (korte gol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- krantepagina's (breedbandverbinding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- foto'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- telegrammen (A-5 forma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- telefax (A-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49160" y="895320"/>
            <a:ext cx="482616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Historisch perspect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98400" y="1644480"/>
            <a:ext cx="8877240" cy="476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1843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Alexander Bain krijgt octrooi op beeldtelegra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1865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toepassing van roterende cilinder voor facsim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door Giovani Caste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1904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Arthur Korn realiseert beeldverbinding tu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München en Würzbe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1925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RCA opent dienst voor beeldoverdracht v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de korte gol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1972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CCITT aanbeveling Groep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1976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CCITT aanbeveling Groep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91440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1980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CCITT aanbeveling Groep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11360" y="895320"/>
            <a:ext cx="571500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Waarom standaardisati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74720" y="1644480"/>
            <a:ext cx="8788320" cy="44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Standaardisatie is nodig om faxapparaten van verschillen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merken met elkaar samen te laten wer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Het CCITT (Comité Consultatif International Télégraphi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et Téléphonique) heeft voor telefax aanbeveling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uitgevaardigd die inmiddels door alle fabrikanten wo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nderste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Groep-1: 6 minuten overdrachttijd voor A-4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Groep-2: 3 minuten overdrachttijd voor A-4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Groep-3: &lt;1 minuut overdrachttijd voor A-4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Groep-4: ca. 5 seconden overdrachttijd voor A-4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971640"/>
            <a:ext cx="33526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1 telef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25480" y="1746360"/>
            <a:ext cx="8013600" cy="44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302256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verzendtijd 6 minuten voor A-4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302256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transmissiemode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analoog, frequentiemodulatie, 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ok amplitudemodu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302256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rotatiesnelheid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180 omwentelingen/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302256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beeldkwaliteit: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hor. resolutie 3,85 punten/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302256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vert. resolutie 3,85 punten/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302256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oplossend vermogen 14,8 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punten/m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3022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tabLst>
                <a:tab algn="l" pos="3022560"/>
              </a:tabLst>
            </a:pPr>
            <a:r>
              <a:rPr b="1" lang="en-US" sz="2400" spc="-1" strike="noStrike">
                <a:solidFill>
                  <a:srgbClr val="22c000"/>
                </a:solidFill>
                <a:latin typeface="Arial"/>
                <a:ea typeface="Arial"/>
              </a:rPr>
              <a:t>Aantal in Nederland geplaatste apparaten: ca. 17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920880"/>
            <a:ext cx="25909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Analoge f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7640" y="1415880"/>
            <a:ext cx="853452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01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920880"/>
            <a:ext cx="69343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d049ff"/>
                </a:solidFill>
                <a:latin typeface="Arial"/>
                <a:ea typeface="Arial"/>
              </a:rPr>
              <a:t>Groep-1 grijswaarde overdrac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11280" y="2863800"/>
            <a:ext cx="70358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inier</dc:creator>
  <dc:description/>
  <dc:language>en-US</dc:language>
  <cp:lastModifiedBy>ROMAN ECKHART</cp:lastModifiedBy>
  <cp:revision>0</cp:revision>
  <dc:subject/>
  <dc:title>Telefax, een nieuwe uitdaging  voor de zendamateur? </dc:title>
</cp:coreProperties>
</file>